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BEC-8913-43FB-9291-A0BDC83D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3F4-7981-44FF-93F7-81B2B7C1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E2C-FF20-4E87-A40B-EDBF836D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F66-8624-466F-93B0-3E579927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7EC-15DF-4754-AF10-A995201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C78-56BA-4041-AA44-7682B89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B25-17E1-4D24-9D9D-9EFBEBF4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83B-D6A9-4A7D-9349-86D90DD3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FF6-A428-4A58-90D3-3BC792D8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6F0-9752-4C62-9917-CADA379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6A0-686C-4357-9D3E-31F6EFF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054-9A46-4A24-A998-84A92F3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Friesner - Consumers, Markets, and the Business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016-BCF8-47E0-B43B-B4CAD6CDB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rketing_teacher_logo" descr=""/>
          <p:cNvPicPr/>
          <p:nvPr/>
        </p:nvPicPr>
        <p:blipFill>
          <a:blip r:embed="rId2"/>
          <a:stretch/>
        </p:blipFill>
        <p:spPr>
          <a:xfrm>
            <a:off x="2133720" y="5908680"/>
            <a:ext cx="472104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tions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in the commun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s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motions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ons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 ch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 - What beliefs and expectations do you have about the following brands? How far are these due to promotion as opposed to personal experi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iry liq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l washing pow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lan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rgin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ss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tional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pport sales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courag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wa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form about a feature or bene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a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n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odify at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1066680"/>
            <a:ext cx="19051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2952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1430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11430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6483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5053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1143000"/>
            <a:ext cx="12189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11430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16256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15328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33520" y="1600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267080" y="2590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096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048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20040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9625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76720" y="3962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4960" y="38088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in the Commun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der - party sending the mes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ding - message in symbolic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ssage - word, pictures and symbols that the sender trans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dia - the communication channel e.g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oding - receiver assigns meaning to symbols encoded by the s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- reaction of the receiver after being exposed to the to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- the part of the receiver’s response after being communicated to the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- unplanned static or distortion during the communication process e.g. competitor action (Creature Comfort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tions M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fairs and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spapers and magaz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 of sale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motional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ci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m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on sty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ce of lif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O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After Eight m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ntas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 .Turkish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d or im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Timotei shamp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 .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Richard Bra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xpert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Vorsprung durch Technik - A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Whis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monial evidence e.g. Ian Bot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choi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problem e.g falling awa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differ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optimum mix of promotion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into overall marketing communication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08:08:49Z</dcterms:created>
  <dc:creator>ITCS</dc:creator>
  <dc:description/>
  <dc:language>en-US</dc:language>
  <cp:lastModifiedBy>xyz</cp:lastModifiedBy>
  <cp:lastPrinted>2000-05-15T09:40:07Z</cp:lastPrinted>
  <dcterms:modified xsi:type="dcterms:W3CDTF">2001-08-11T08:07:36Z</dcterms:modified>
  <cp:revision>41</cp:revision>
  <dc:subject/>
  <dc:title>No Slide Title</dc:title>
</cp:coreProperties>
</file>