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7DC0-F7A3-45E8-B465-DB20EB332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7216-E7BD-40EA-A33B-72543DC57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4CC1-4D76-46EA-B903-312E63A5C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1295-346A-4FA1-ACED-52B9F4E54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6C99-75E6-423E-89E7-6BA077455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2534-BD6E-499B-BB48-E1BC4DC53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2562-E97F-43A1-8BFB-1E39E54D1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6FC4-EC02-43AB-BDA8-9C82CEE03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A905-ADEA-47AB-9828-337D90694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2426-DABA-4A0A-944A-BEADEFABD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C835-4C87-4E3D-813B-34BF5DA2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4AFF-A459-4F7F-A401-6498F9CCC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B60-A55B-4B4E-8838-59746AD8F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arketing_teacher_logo" descr=""/>
          <p:cNvPicPr/>
          <p:nvPr/>
        </p:nvPicPr>
        <p:blipFill>
          <a:blip r:embed="rId2"/>
          <a:stretch/>
        </p:blipFill>
        <p:spPr>
          <a:xfrm>
            <a:off x="2057400" y="5908680"/>
            <a:ext cx="472140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of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is the management process that identifies, anticipates and satisfies customer requirements profitably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rtered Institute of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ght product, in the right place, at the right time, and at the right price’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dcock et 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 the human activity directed at satisfying human needs and wants through an exchange process’</a:t>
            </a:r>
            <a:br>
              <a:rPr sz="5400"/>
            </a:br>
            <a:br>
              <a:rPr sz="5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otler 198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is a social and managerial process by which individuals and groups obtain what they want and need through creating, offering and exchanging products of value with others’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otler 199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of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are our existing / potential custom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ir current / future nee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atisfy these nee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offer a product/ service that the customer would va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communicate with our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deliver a competitive product of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hould customers buy from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eting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osing and targeting appropriate cust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ing your off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acting with those cust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ling the marketing eff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inuity of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ful marketing requi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f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ensive (rather than defens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tegic (is future orient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ective (gets results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ugh Davidson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manage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/Audit - where are we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 - where do we want to b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tegies - which way is b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ctics - how do we get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mplementation - Getting there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- Ensuring arr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marketing planning necess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atic futuristic thinking b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o-ordination of a company’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performance standards f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pening of objectives and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epare for sudden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8:00:54Z</dcterms:created>
  <dc:creator>ITCS</dc:creator>
  <dc:description/>
  <dc:language>en-US</dc:language>
  <cp:lastModifiedBy>xyz</cp:lastModifiedBy>
  <dcterms:modified xsi:type="dcterms:W3CDTF">2001-08-11T08:50:20Z</dcterms:modified>
  <cp:revision>22</cp:revision>
  <dc:subject/>
  <dc:title>Definitions of marketing</dc:title>
</cp:coreProperties>
</file>