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5A51A-C347-42D6-87F1-1749914451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99BEC-5523-46C6-8C67-9216C18A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856C4-09EF-46AD-AF0A-3B72CD73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1A779-1916-457F-A641-4580993693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9DC2-5A0A-496B-A0DF-2CB34276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CCC76-9B68-44C2-8A4D-61177F36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AC9D1-74CB-44FC-9661-2387D169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61782-2F60-4EDC-B50C-898902DA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EA137-5D4B-4A55-934A-22325D87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42D6-EB72-4599-A682-B972A427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66DEC-4462-4193-94F2-287D0C13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FCF0A-7D70-45FB-AB88-9E7CB69F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B020-41E2-432A-948E-5CB6FE582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marketing_teacher_logo" descr=""/>
          <p:cNvPicPr/>
          <p:nvPr/>
        </p:nvPicPr>
        <p:blipFill>
          <a:blip r:embed="rId2"/>
          <a:stretch/>
        </p:blipFill>
        <p:spPr>
          <a:xfrm>
            <a:off x="2286000" y="5908680"/>
            <a:ext cx="472140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c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Life Cycle (Revisited in ‘Product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wman’s Competitive Strategy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Product Development (NP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lc_lesson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4771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stages of the PL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 development - sales are zero, investment costs are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- profits do not exist, heavy expense of product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- rapid market acceptance and increasing pro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urity - slowdown in sales growth. Profits level-off. Increase outl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comp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ine - sales fall-off and profits d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C 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d Esc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ni Coo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et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bury’s F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eing 7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llennium D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T 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" y="5181480"/>
            <a:ext cx="75956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 Based on the work of Cliff Bowman. See C.Bowman and D.Faulkn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etitive and Corporate Strategy, Irwin, 199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343480" y="3603600"/>
            <a:ext cx="6480" cy="6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18320" y="2752560"/>
            <a:ext cx="7920" cy="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443280" y="3205080"/>
            <a:ext cx="9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859280" y="4682880"/>
            <a:ext cx="0" cy="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1000" y="4221000"/>
            <a:ext cx="6480" cy="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owmans_lesson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286320" cy="4000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09680" y="3808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wman’s Strategy C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447920"/>
            <a:ext cx="8077320" cy="42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 Low price/low added val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ly to be segment speci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   Low pr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of price war and 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gins/need to be cost lead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Hybr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cost base and reinvestment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price and different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   Different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Without price prem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ived added value by us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ielding market share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With price prem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ived added value sufficient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ar price prem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1600" y="457200"/>
            <a:ext cx="7734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rategy Clock: Bowman’s Competitive Strategy O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   Focused differenti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ived added value to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ular segment, warran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prem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   Increased price/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er margins if competi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not value follow/risk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ing mar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   Increased price/low va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feasible in monopol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   Low value/standard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 of mar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- Product Development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product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a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a scre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pt development and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ing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 Marke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18:25:46Z</dcterms:created>
  <dc:creator>ITCS</dc:creator>
  <dc:description/>
  <dc:language>en-US</dc:language>
  <cp:lastModifiedBy>xyz</cp:lastModifiedBy>
  <cp:lastPrinted>2000-03-22T16:44:07Z</cp:lastPrinted>
  <dcterms:modified xsi:type="dcterms:W3CDTF">2001-08-11T09:18:08Z</dcterms:modified>
  <cp:revision>31</cp:revision>
  <dc:subject/>
  <dc:title>Strategic Development</dc:title>
</cp:coreProperties>
</file>