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5072-4F51-4A80-B650-8C4AB4AC1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1452-71BD-4BDE-BA30-BA4720B8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8079-0698-4B29-A558-D85165F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EFC6-B152-4D5D-ADD8-CF9EBB248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62A6-F76E-4E57-9903-A6C3A5D8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8B1F-B6E1-48BA-801A-7297FDD4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7B86-286F-480C-952E-722E67AE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C658-049A-438D-B346-7576071C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61E3-FC2A-4094-B33F-BB56E38A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8690-0C83-4681-B609-7D5B5F27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DE45-2438-4A12-8DD8-D1A5A78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FE6C-4B4F-4900-A913-42FEFDC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9EF-4398-4C08-BC30-2359CA841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133720" y="5908680"/>
            <a:ext cx="472104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lement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tion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quality an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the organisation/stakehold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ies to establish and build custome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Kinsey 7-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ckinsey 7-S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1219320"/>
            <a:ext cx="1676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09680"/>
            <a:ext cx="1676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c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200400"/>
            <a:ext cx="1676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ing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191120"/>
            <a:ext cx="1676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200400"/>
            <a:ext cx="16761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3200400"/>
            <a:ext cx="1676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181480"/>
            <a:ext cx="1676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tegy/tac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3440" y="574560"/>
            <a:ext cx="53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rketing Implement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58760" y="538308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man and Evans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3341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problems e.g change of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problems e.g. changing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planning e.g. Hoover’s flight ti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intelligence e.g. 1985 Coca-C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exec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a programme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ction check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the implementat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 time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up detailed implementa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a team of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good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se the case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212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ense of purpose and urgency to tackle real problems which have prevented progress in the 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repared for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willing to negot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cipat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in the capacity fo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Quality and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is what customers say it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an and TQ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process control (S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relationships with suppliers (J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Assurance e.g BS EN ISO 9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aging the organisation/stakeholder inte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and internal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ability of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er projects an image and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al responsibilities towards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ngerous products e.g. cigaret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honest marketing and 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use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vailability of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to establish and build customer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long term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ACCA - ‘expensive’ in promotional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sales to existing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servic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ing the fulfilment of custom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a cultural change to a marketing orientation - Marketing Myopia Levitt (19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istent application of up-to-date knowledge of individual customers to product and service design . . . . In order to develop a continuous and long-term relationship’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ss marketing. Aimed at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retention not at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, ongoing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customer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rit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5:31:49Z</dcterms:created>
  <dc:creator>ITCS</dc:creator>
  <dc:description/>
  <dc:language>en-US</dc:language>
  <cp:lastModifiedBy>xyz</cp:lastModifiedBy>
  <cp:lastPrinted>2000-05-24T16:31:01Z</cp:lastPrinted>
  <dcterms:modified xsi:type="dcterms:W3CDTF">2001-08-11T09:20:54Z</dcterms:modified>
  <cp:revision>19</cp:revision>
  <dc:subject/>
  <dc:title>No Slide Title</dc:title>
</cp:coreProperties>
</file>