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5B47-4AD0-4FB3-8EA1-0EC8F6E9A1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C50B8-6840-406C-9927-9300C24A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F029-A0F6-400B-9503-2D696DB6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3A35-5F58-450C-A8AE-78D4A61618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D746-65DA-48F4-80FF-FE11B6E4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0D5D-D04A-4512-840F-3874DA0C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A052-1AB0-44AF-B313-86F3E3E4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31A41-BDBC-4100-A018-3AE04ACD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7B18-24E2-4CE3-9C2B-9746E51D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3505D-F1D9-4735-830C-26068BA2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A82A-5870-43B7-A6E1-0E008EFE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C1EB-6B23-47C6-AC27-B526B400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FB99-74F3-4D90-8FA0-F0E465F30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marketing_teacher_logo" descr=""/>
          <p:cNvPicPr/>
          <p:nvPr/>
        </p:nvPicPr>
        <p:blipFill>
          <a:blip r:embed="rId2"/>
          <a:stretch/>
        </p:blipFill>
        <p:spPr>
          <a:xfrm>
            <a:off x="2057400" y="5908680"/>
            <a:ext cx="472140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Inform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arketing Resear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KIS - Marketing Information Sys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an electronic M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onents of a computerised MK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bank - raw data e.g historical sales data, second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 bank -  programmes to carry-out sales forecasts, spend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odel bank - stores marketing models e.g Ansoff’s matrix, Boston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play unit - VDU and key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atic gathering, recording and analysing of data about problems relating to the marketing of goods and service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Marketing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rketing Resear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 research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ss the value of the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 a research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y data collecti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y techniques of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 of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in a 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y of Marketing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data - collected first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data - already exists, desk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ative research - statistical b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ative research - subjective and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ing - studying part of a ‘population’ to learn about the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Research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e-to-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tal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itude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gnitive component (know/believe about an act/ob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fective component (feel about an act/ob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ative component (behave towards an object or 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kert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ly a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ither agree nor disa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ly disa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differential scales - differences between words e.g.  practical v impractic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jective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sychodrama (yourself as a produ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iendly martian (what someone else might 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discussion and focus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al research questionn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y panels - sources of continuou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-home scanning - hand-held light pen to scan bar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phon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-store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K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KIS (MIS) is a set of procedures and methods for the regular, planned collection, analysis and presentation of information for use in marketing decision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Marketing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onents of a computerised MK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5029200"/>
            <a:ext cx="12952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438280"/>
            <a:ext cx="12952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733920"/>
            <a:ext cx="12956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733920"/>
            <a:ext cx="12952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733920"/>
            <a:ext cx="12952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733920"/>
            <a:ext cx="12956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5053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4114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08:45:41Z</dcterms:created>
  <dc:creator>ITCS</dc:creator>
  <dc:description/>
  <dc:language>en-US</dc:language>
  <cp:lastModifiedBy>xyz</cp:lastModifiedBy>
  <cp:lastPrinted>2000-03-13T09:44:14Z</cp:lastPrinted>
  <dcterms:modified xsi:type="dcterms:W3CDTF">2001-08-11T08:52:47Z</dcterms:modified>
  <cp:revision>25</cp:revision>
  <dc:subject/>
  <dc:title>Marketing Information Systems</dc:title>
</cp:coreProperties>
</file>