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9771-DF1D-42EE-8B9C-79487DFA6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1D83-66A6-4C8F-9117-09EC9F0A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55A6-0814-4D96-B893-5444B53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883F-ADD1-425A-8CB1-2B927B0BF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EAFE-A6D3-4E5B-9135-0C365ED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2609-E65E-45BE-A231-339EE4DE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E5C-0242-4471-9F39-1E1B0B9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D2B0-6204-4936-AAE1-A78A5D95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1C40-4DD5-4AB9-84C5-B37CBDC5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AF8A-0A95-45D2-ADA9-861FB515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721F-8760-4A8C-8D93-94B46FF6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D82E-57BB-46A3-BACE-31925E4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1397-4909-4752-A9EE-C927E6FD8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2860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marketing planning necess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 futuristic thinking  b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co-ordination of company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better performance standards fo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ening of objectives and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prepare for sudden new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have a vivid sense of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isms of marketing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plans can be quickly overtaken by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of the plan my be kept secret for no 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lf between senior managers and implementing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 needs a sub-scheme of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of the marketing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as a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in management control and monitoring the implementation of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new participants in the plan of their role and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resources for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timulate thinking and make better use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responsibilities, task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reness of problems, opportunities and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marketing information may have been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mplementation is not carefully controlled by managers, the plan is worthles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ents and structure of the marketing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al analysis and targe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and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data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ary notes for effectiv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lindly rely on mathematical and statistical calculations. Use your judgemen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ever assume that past trends can be exploited into the future for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rawing conclusions from statistical data, make sure the sample size is sufficientl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ural plann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recalcitrance: resistance and non-co-operation by managers in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of uncertainty in planning: a lack of comfort in plann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interests in planning activities:resource bargaining, padding of requirements, and avoidance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voidance: compliance rather than commitment to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Planning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- where are we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- where do we want to 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tegies - which way is b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ctics - how do we ensure arriv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- are we on the right tr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16:57:28Z</dcterms:created>
  <dc:creator>ITCS</dc:creator>
  <dc:description/>
  <dc:language>en-US</dc:language>
  <cp:lastModifiedBy>xyz</cp:lastModifiedBy>
  <dcterms:modified xsi:type="dcterms:W3CDTF">2001-08-11T08:57:03Z</dcterms:modified>
  <cp:revision>19</cp:revision>
  <dc:subject/>
  <dc:title>No Slide Title</dc:title>
</cp:coreProperties>
</file>