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F52-7FAB-449F-91E5-8F924A77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252-A4E4-4613-88E4-A0C2B2F0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EA0-2F5D-4DAF-A060-57872C21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A26-0BC3-4709-8DCE-F52668F5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A3F-D7A3-49EB-BFE8-63060B55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7D6-0F09-4FFF-A01B-9F332091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FE51-AB0D-45DF-B899-B9646252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F22-52BA-4AF9-A827-25B27B7D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2E7-C1BA-487A-9D9D-92B33BEC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8BF-23A8-4462-A1C2-F826E9DD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62F-D72F-4C25-9937-4CF92310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8E3-5260-4850-8125-0625F597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F701-D1AD-4D30-82FA-97EE9FC92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rketing_teacher_logo" descr=""/>
          <p:cNvPicPr/>
          <p:nvPr/>
        </p:nvPicPr>
        <p:blipFill>
          <a:blip r:embed="rId2"/>
          <a:stretch/>
        </p:blipFill>
        <p:spPr>
          <a:xfrm>
            <a:off x="2057400" y="5908680"/>
            <a:ext cx="472140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yer Behavi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minant Family Purchase - Cozenza 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mographic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nsumer Buy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slow’s hierarchy of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K socioeconomic classifica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buyer 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Buying Decis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ganisational Buyer 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organisational buyer behavi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ation purpose  - Goodyear Ty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demand - follows cars and lo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d purchasing - stockholdings of rub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dealings - large purchaser of basic rubber - no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st activities - learns about th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urchase influences - DMU - Decision making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nt Family Purchase - Cozenza 19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1828800"/>
          <a:ext cx="9131400" cy="765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9131400" cy="76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n family life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circumst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influenc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 and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sumer Buying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00200"/>
            <a:ext cx="19810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1600200"/>
            <a:ext cx="19810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1600200"/>
            <a:ext cx="198144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4038480"/>
            <a:ext cx="297180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5720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1828800"/>
            <a:ext cx="16002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Dec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d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h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4191120"/>
            <a:ext cx="25909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ychological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5715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d on Cohen (199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keting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47920" y="1143000"/>
            <a:ext cx="5486400" cy="3962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457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slow’s Hierarchy of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048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3733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4197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4956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o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3080" y="380988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8320" y="31240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3800" y="243828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e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6240" y="1295280"/>
            <a:ext cx="219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u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90760" y="18288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K socioeconomic classification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7240" y="1835280"/>
          <a:ext cx="7770960" cy="83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835280"/>
                    <a:ext cx="7770960" cy="83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buyer behavi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buyer behaviour e.g. Intel Pentium 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onance-reducing behaviour (brand reduces after-sales discomf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itual buying behaviour e.g. salt - little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ety seeking behaviour - significant brand differences e.g soap pow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uying Decis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of the need e.g a new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 of involvement level (time and effort justified) e.g. two week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of alternatives e.g. Dell, PC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alternatives I.e. price, customer service, software support, printer/scanner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- choice made e.g Eps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e.g buy Epsom model from Co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-purchase behaviour I.e. use, breakdown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sational Buyer Behavi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decision-making process by which formal organisations establish the need for purchased products and services, and identify, evaluate, and choose among alternative brands and supplier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otler and Armstrong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5T16:53:18Z</dcterms:created>
  <dc:creator>ITCS</dc:creator>
  <dc:description/>
  <dc:language>en-US</dc:language>
  <cp:lastModifiedBy>Abhishek</cp:lastModifiedBy>
  <cp:lastPrinted>2000-03-15T18:05:16Z</cp:lastPrinted>
  <dcterms:modified xsi:type="dcterms:W3CDTF">2007-08-16T10:17:05Z</dcterms:modified>
  <cp:revision>22</cp:revision>
  <dc:subject/>
  <dc:title>Buyer Behaviour</dc:title>
</cp:coreProperties>
</file>