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F20-0286-4168-A36C-724D0BF8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CCE-0CAC-480D-928F-FCBC118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4C6-2443-4A10-9523-869059A5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284-0722-441D-B198-3967DE28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921-80DE-4846-8BD2-742A286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A0A-7089-4F5A-8E5A-6DFC2B8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D66-7B72-4802-A2ED-167BC30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07D-5C06-4F97-B36C-B6F5E41F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465-68D4-4555-B5CE-B68619D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25B-9447-4D0C-92FE-4089AAD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CB7-3231-4BA4-AFA0-0E3CF61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E55-5D58-4B3E-89C7-62D8B60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Friesner - Marketing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F3C8-71B8-4A3B-A24A-AA904CE2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rketing_teacher_logo" descr=""/>
          <p:cNvPicPr/>
          <p:nvPr/>
        </p:nvPicPr>
        <p:blipFill>
          <a:blip r:embed="rId2"/>
          <a:stretch/>
        </p:blipFill>
        <p:spPr>
          <a:xfrm>
            <a:off x="20574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and Distribution Tac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lin’s definition of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’s system of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basic channe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nfluence Strategies - Frazier and Sheth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ies of use of influence strategies - Frazier and Summers (19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Influence Strategie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zier and Sheth (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influence strategies - information is merely exchanged with channel member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nmediated strategies - consequences of a poor response from the market are st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ard and punishment strategies - given to channel members and their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nweighted strategy or request - producer’s wishes are communicated . No consequences are applied or ment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mediated strategies - specific action is requested and consequences of rejection are st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1 control of retail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2 minimum order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3 salesperson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4 physical layout of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5 territorial and customer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917640" y="1093680"/>
          <a:ext cx="7337520" cy="58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093680"/>
                    <a:ext cx="7337520" cy="58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70000" y="552780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zier and Summers (19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4000" y="304920"/>
            <a:ext cx="55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ies of use of Influenc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channel of distribution comprises a set of institutions which perform all of the activities utilised to move a product and its title from production to con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li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ory of Distribution Channel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9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3720" y="129528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76212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46440" y="685800"/>
            <a:ext cx="14760" cy="5486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90512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287360" y="685800"/>
            <a:ext cx="17640" cy="5486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59092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200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80988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41972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10552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7150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8760" y="2022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89480" y="879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371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87320" y="270828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ing and s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3526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680" y="39625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0920" y="453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1640" y="51465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680" y="0"/>
            <a:ext cx="423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system of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148320" y="342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8190360" y="32274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intermediaries - Wholesa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down ‘bulk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s from producers and sell small quantities to reta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torage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contact cost between producer and consu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saler takes some of the marketing responsibility e.g sales force, promo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intermediaries -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internation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ssion agent - does not take title of the goods. Secures 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ist agent - hold ‘consignment’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s difficult due to cultural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, motivation, etc are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intermediaries - Reta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stronger personal relationship with the 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 a variety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consumers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and merchandise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the final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retailer ‘brand’ in the high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intermediaries -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to a geographically dispers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target and focus on specific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low set-up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e-commerce technology (for payment, shopping software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 shift in commerce and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basic channel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or indirect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or multiple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ntermediaries at each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ntermediaries? Avoid intrachannel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 - must know the specific segment and target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during plc - different channels are exploited at various stages of p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r-distributor fit - their policies, strategies an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fication assessment - experience and track record must be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or training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57:08Z</dcterms:created>
  <dc:creator>ITCS</dc:creator>
  <dc:description/>
  <dc:language>en-US</dc:language>
  <cp:lastModifiedBy>xyz</cp:lastModifiedBy>
  <cp:lastPrinted>2000-05-08T15:39:41Z</cp:lastPrinted>
  <dcterms:modified xsi:type="dcterms:W3CDTF">2001-08-11T08:48:05Z</dcterms:modified>
  <cp:revision>22</cp:revision>
  <dc:subject/>
  <dc:title>Channel and Distribution Tactics</dc:title>
</cp:coreProperties>
</file>