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E4B8-66BE-41FC-B97E-7BBF5C32D2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D2BA-7E8D-48FF-85A6-1FA6F019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6F5A6-7558-4B59-9833-C82A7529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0072-EF43-4E9D-A538-54BC72EF9B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0291-65EB-401B-ABDF-EC94D0F9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F2FFE-DB0A-4DB5-9DEB-00EF2895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12CE-895D-44B8-8DF2-96F74E2A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5BDB-C8CA-436B-B3F6-ADF83806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35E2-A24C-49A1-B86A-AD09CBC9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974B-9BCB-4A2D-AFFA-17009713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9723-DB86-4AA7-A7C3-6E262BF5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0275-59E2-4150-A48E-780D8135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B7FC-2E48-4029-B340-B6AC59B14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marketing_teacher_logo" descr=""/>
          <p:cNvPicPr/>
          <p:nvPr/>
        </p:nvPicPr>
        <p:blipFill>
          <a:blip r:embed="rId2"/>
          <a:stretch/>
        </p:blipFill>
        <p:spPr>
          <a:xfrm>
            <a:off x="2286000" y="5908680"/>
            <a:ext cx="472140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s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t and Service Classific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duct Life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product matr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ston Matrix (Growth/Sha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off’s Matrix (Product Mark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 and Service Classification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ience goods - little effort, relatively in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ping goods - e.g ‘white goods’, DIY equipment, more expensive, infrequ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ty goods - extensive search e.g Jewellery, gourmet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ught goods - e.g. double glaz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l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s - ‘speciality’ goods of industrial markets - plant and machin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ies - maintenance and office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w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 to business  e.g. consultants, accoun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87400" y="6194520"/>
            <a:ext cx="1906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5680" y="6194520"/>
            <a:ext cx="28972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51080" y="2017800"/>
            <a:ext cx="25200" cy="14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57200" y="3440160"/>
            <a:ext cx="59374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51080" y="3440160"/>
            <a:ext cx="2520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8"/>
                </a:move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16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57200" y="3268800"/>
            <a:ext cx="965160" cy="174600"/>
          </a:xfrm>
          <a:custGeom>
            <a:avLst/>
            <a:gdLst/>
            <a:ahLst/>
            <a:rect l="l" t="t" r="r" b="b"/>
            <a:pathLst>
              <a:path w="608" h="110">
                <a:moveTo>
                  <a:pt x="0" y="102"/>
                </a:moveTo>
                <a:lnTo>
                  <a:pt x="29" y="100"/>
                </a:lnTo>
                <a:lnTo>
                  <a:pt x="84" y="93"/>
                </a:lnTo>
                <a:lnTo>
                  <a:pt x="247" y="68"/>
                </a:lnTo>
                <a:lnTo>
                  <a:pt x="343" y="53"/>
                </a:lnTo>
                <a:lnTo>
                  <a:pt x="438" y="35"/>
                </a:lnTo>
                <a:lnTo>
                  <a:pt x="529" y="18"/>
                </a:lnTo>
                <a:lnTo>
                  <a:pt x="607" y="0"/>
                </a:lnTo>
                <a:lnTo>
                  <a:pt x="608" y="8"/>
                </a:lnTo>
                <a:lnTo>
                  <a:pt x="530" y="26"/>
                </a:lnTo>
                <a:lnTo>
                  <a:pt x="439" y="43"/>
                </a:lnTo>
                <a:lnTo>
                  <a:pt x="344" y="61"/>
                </a:lnTo>
                <a:lnTo>
                  <a:pt x="248" y="76"/>
                </a:lnTo>
                <a:lnTo>
                  <a:pt x="85" y="101"/>
                </a:lnTo>
                <a:lnTo>
                  <a:pt x="29" y="107"/>
                </a:lnTo>
                <a:lnTo>
                  <a:pt x="0" y="11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0320" y="2006640"/>
            <a:ext cx="2822400" cy="1363680"/>
          </a:xfrm>
          <a:custGeom>
            <a:avLst/>
            <a:gdLst/>
            <a:ahLst/>
            <a:rect l="l" t="t" r="r" b="b"/>
            <a:pathLst>
              <a:path w="1778" h="859">
                <a:moveTo>
                  <a:pt x="0" y="850"/>
                </a:moveTo>
                <a:lnTo>
                  <a:pt x="69" y="830"/>
                </a:lnTo>
                <a:lnTo>
                  <a:pt x="135" y="808"/>
                </a:lnTo>
                <a:lnTo>
                  <a:pt x="197" y="786"/>
                </a:lnTo>
                <a:lnTo>
                  <a:pt x="259" y="762"/>
                </a:lnTo>
                <a:lnTo>
                  <a:pt x="317" y="734"/>
                </a:lnTo>
                <a:lnTo>
                  <a:pt x="374" y="707"/>
                </a:lnTo>
                <a:lnTo>
                  <a:pt x="482" y="648"/>
                </a:lnTo>
                <a:lnTo>
                  <a:pt x="585" y="587"/>
                </a:lnTo>
                <a:lnTo>
                  <a:pt x="684" y="522"/>
                </a:lnTo>
                <a:lnTo>
                  <a:pt x="874" y="392"/>
                </a:lnTo>
                <a:lnTo>
                  <a:pt x="969" y="329"/>
                </a:lnTo>
                <a:lnTo>
                  <a:pt x="1066" y="265"/>
                </a:lnTo>
                <a:lnTo>
                  <a:pt x="1166" y="207"/>
                </a:lnTo>
                <a:lnTo>
                  <a:pt x="1219" y="179"/>
                </a:lnTo>
                <a:lnTo>
                  <a:pt x="1272" y="153"/>
                </a:lnTo>
                <a:lnTo>
                  <a:pt x="1384" y="103"/>
                </a:lnTo>
                <a:lnTo>
                  <a:pt x="1444" y="80"/>
                </a:lnTo>
                <a:lnTo>
                  <a:pt x="1505" y="60"/>
                </a:lnTo>
                <a:lnTo>
                  <a:pt x="1569" y="42"/>
                </a:lnTo>
                <a:lnTo>
                  <a:pt x="1636" y="26"/>
                </a:lnTo>
                <a:lnTo>
                  <a:pt x="1704" y="11"/>
                </a:lnTo>
                <a:lnTo>
                  <a:pt x="1777" y="0"/>
                </a:lnTo>
                <a:lnTo>
                  <a:pt x="1778" y="9"/>
                </a:lnTo>
                <a:lnTo>
                  <a:pt x="1705" y="20"/>
                </a:lnTo>
                <a:lnTo>
                  <a:pt x="1637" y="35"/>
                </a:lnTo>
                <a:lnTo>
                  <a:pt x="1571" y="51"/>
                </a:lnTo>
                <a:lnTo>
                  <a:pt x="1507" y="69"/>
                </a:lnTo>
                <a:lnTo>
                  <a:pt x="1446" y="90"/>
                </a:lnTo>
                <a:lnTo>
                  <a:pt x="1389" y="111"/>
                </a:lnTo>
                <a:lnTo>
                  <a:pt x="1276" y="161"/>
                </a:lnTo>
                <a:lnTo>
                  <a:pt x="1223" y="187"/>
                </a:lnTo>
                <a:lnTo>
                  <a:pt x="1171" y="215"/>
                </a:lnTo>
                <a:lnTo>
                  <a:pt x="1071" y="273"/>
                </a:lnTo>
                <a:lnTo>
                  <a:pt x="974" y="337"/>
                </a:lnTo>
                <a:lnTo>
                  <a:pt x="878" y="400"/>
                </a:lnTo>
                <a:lnTo>
                  <a:pt x="689" y="530"/>
                </a:lnTo>
                <a:lnTo>
                  <a:pt x="590" y="595"/>
                </a:lnTo>
                <a:lnTo>
                  <a:pt x="486" y="656"/>
                </a:lnTo>
                <a:lnTo>
                  <a:pt x="378" y="715"/>
                </a:lnTo>
                <a:lnTo>
                  <a:pt x="321" y="742"/>
                </a:lnTo>
                <a:lnTo>
                  <a:pt x="263" y="769"/>
                </a:lnTo>
                <a:lnTo>
                  <a:pt x="200" y="793"/>
                </a:lnTo>
                <a:lnTo>
                  <a:pt x="138" y="817"/>
                </a:lnTo>
                <a:lnTo>
                  <a:pt x="72" y="839"/>
                </a:lnTo>
                <a:lnTo>
                  <a:pt x="2" y="859"/>
                </a:lnTo>
                <a:lnTo>
                  <a:pt x="0" y="8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02120" y="2057400"/>
            <a:ext cx="2395440" cy="585720"/>
          </a:xfrm>
          <a:custGeom>
            <a:avLst/>
            <a:gdLst/>
            <a:ahLst/>
            <a:rect l="l" t="t" r="r" b="b"/>
            <a:pathLst>
              <a:path w="1509" h="369">
                <a:moveTo>
                  <a:pt x="0" y="7"/>
                </a:moveTo>
                <a:lnTo>
                  <a:pt x="54" y="2"/>
                </a:lnTo>
                <a:lnTo>
                  <a:pt x="117" y="0"/>
                </a:lnTo>
                <a:lnTo>
                  <a:pt x="188" y="2"/>
                </a:lnTo>
                <a:lnTo>
                  <a:pt x="268" y="7"/>
                </a:lnTo>
                <a:lnTo>
                  <a:pt x="355" y="16"/>
                </a:lnTo>
                <a:lnTo>
                  <a:pt x="448" y="29"/>
                </a:lnTo>
                <a:lnTo>
                  <a:pt x="547" y="44"/>
                </a:lnTo>
                <a:lnTo>
                  <a:pt x="649" y="64"/>
                </a:lnTo>
                <a:lnTo>
                  <a:pt x="755" y="88"/>
                </a:lnTo>
                <a:lnTo>
                  <a:pt x="863" y="115"/>
                </a:lnTo>
                <a:lnTo>
                  <a:pt x="917" y="130"/>
                </a:lnTo>
                <a:lnTo>
                  <a:pt x="972" y="146"/>
                </a:lnTo>
                <a:lnTo>
                  <a:pt x="1082" y="181"/>
                </a:lnTo>
                <a:lnTo>
                  <a:pt x="1191" y="219"/>
                </a:lnTo>
                <a:lnTo>
                  <a:pt x="1247" y="242"/>
                </a:lnTo>
                <a:lnTo>
                  <a:pt x="1301" y="264"/>
                </a:lnTo>
                <a:lnTo>
                  <a:pt x="1354" y="286"/>
                </a:lnTo>
                <a:lnTo>
                  <a:pt x="1406" y="311"/>
                </a:lnTo>
                <a:lnTo>
                  <a:pt x="1509" y="362"/>
                </a:lnTo>
                <a:lnTo>
                  <a:pt x="1505" y="369"/>
                </a:lnTo>
                <a:lnTo>
                  <a:pt x="1402" y="318"/>
                </a:lnTo>
                <a:lnTo>
                  <a:pt x="1350" y="293"/>
                </a:lnTo>
                <a:lnTo>
                  <a:pt x="1297" y="271"/>
                </a:lnTo>
                <a:lnTo>
                  <a:pt x="1243" y="249"/>
                </a:lnTo>
                <a:lnTo>
                  <a:pt x="1189" y="227"/>
                </a:lnTo>
                <a:lnTo>
                  <a:pt x="1080" y="189"/>
                </a:lnTo>
                <a:lnTo>
                  <a:pt x="970" y="154"/>
                </a:lnTo>
                <a:lnTo>
                  <a:pt x="915" y="138"/>
                </a:lnTo>
                <a:lnTo>
                  <a:pt x="861" y="123"/>
                </a:lnTo>
                <a:lnTo>
                  <a:pt x="753" y="95"/>
                </a:lnTo>
                <a:lnTo>
                  <a:pt x="647" y="72"/>
                </a:lnTo>
                <a:lnTo>
                  <a:pt x="546" y="52"/>
                </a:lnTo>
                <a:lnTo>
                  <a:pt x="447" y="36"/>
                </a:lnTo>
                <a:lnTo>
                  <a:pt x="354" y="24"/>
                </a:lnTo>
                <a:lnTo>
                  <a:pt x="267" y="15"/>
                </a:lnTo>
                <a:lnTo>
                  <a:pt x="188" y="10"/>
                </a:lnTo>
                <a:lnTo>
                  <a:pt x="117" y="8"/>
                </a:lnTo>
                <a:lnTo>
                  <a:pt x="54" y="10"/>
                </a:lnTo>
                <a:lnTo>
                  <a:pt x="0" y="15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765840" y="3925800"/>
            <a:ext cx="98280" cy="372960"/>
            <a:chOff x="6765840" y="3925800"/>
            <a:chExt cx="98280" cy="372960"/>
          </a:xfrm>
        </p:grpSpPr>
        <p:sp>
          <p:nvSpPr>
            <p:cNvPr id="55" name=""/>
            <p:cNvSpPr/>
            <p:nvPr/>
          </p:nvSpPr>
          <p:spPr>
            <a:xfrm>
              <a:off x="6765840" y="3925800"/>
              <a:ext cx="98280" cy="372960"/>
            </a:xfrm>
            <a:custGeom>
              <a:avLst/>
              <a:gdLst/>
              <a:ahLst/>
              <a:rect l="l" t="t" r="r" b="b"/>
              <a:pathLst>
                <a:path w="62" h="235">
                  <a:moveTo>
                    <a:pt x="0" y="235"/>
                  </a:moveTo>
                  <a:lnTo>
                    <a:pt x="5" y="235"/>
                  </a:lnTo>
                  <a:lnTo>
                    <a:pt x="10" y="234"/>
                  </a:lnTo>
                  <a:lnTo>
                    <a:pt x="15" y="231"/>
                  </a:lnTo>
                  <a:lnTo>
                    <a:pt x="18" y="228"/>
                  </a:lnTo>
                  <a:lnTo>
                    <a:pt x="23" y="219"/>
                  </a:lnTo>
                  <a:lnTo>
                    <a:pt x="26" y="210"/>
                  </a:lnTo>
                  <a:lnTo>
                    <a:pt x="26" y="179"/>
                  </a:lnTo>
                  <a:lnTo>
                    <a:pt x="25" y="146"/>
                  </a:lnTo>
                  <a:lnTo>
                    <a:pt x="23" y="80"/>
                  </a:lnTo>
                  <a:lnTo>
                    <a:pt x="24" y="52"/>
                  </a:lnTo>
                  <a:lnTo>
                    <a:pt x="26" y="40"/>
                  </a:lnTo>
                  <a:lnTo>
                    <a:pt x="31" y="28"/>
                  </a:lnTo>
                  <a:lnTo>
                    <a:pt x="36" y="19"/>
                  </a:lnTo>
                  <a:lnTo>
                    <a:pt x="43" y="12"/>
                  </a:lnTo>
                  <a:lnTo>
                    <a:pt x="53" y="4"/>
                  </a:lnTo>
                  <a:lnTo>
                    <a:pt x="62" y="0"/>
                  </a:lnTo>
                  <a:lnTo>
                    <a:pt x="49" y="2"/>
                  </a:lnTo>
                  <a:lnTo>
                    <a:pt x="40" y="5"/>
                  </a:lnTo>
                  <a:lnTo>
                    <a:pt x="28" y="17"/>
                  </a:lnTo>
                  <a:lnTo>
                    <a:pt x="25" y="21"/>
                  </a:lnTo>
                  <a:lnTo>
                    <a:pt x="22" y="26"/>
                  </a:lnTo>
                  <a:lnTo>
                    <a:pt x="18" y="37"/>
                  </a:lnTo>
                  <a:lnTo>
                    <a:pt x="16" y="48"/>
                  </a:lnTo>
                  <a:lnTo>
                    <a:pt x="16" y="58"/>
                  </a:lnTo>
                  <a:lnTo>
                    <a:pt x="15" y="104"/>
                  </a:lnTo>
                  <a:lnTo>
                    <a:pt x="18" y="174"/>
                  </a:lnTo>
                  <a:lnTo>
                    <a:pt x="19" y="189"/>
                  </a:lnTo>
                  <a:lnTo>
                    <a:pt x="18" y="203"/>
                  </a:lnTo>
                  <a:lnTo>
                    <a:pt x="14" y="216"/>
                  </a:lnTo>
                  <a:lnTo>
                    <a:pt x="6" y="229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65840" y="3925800"/>
              <a:ext cx="98280" cy="372960"/>
            </a:xfrm>
            <a:custGeom>
              <a:avLst/>
              <a:gdLst/>
              <a:ahLst/>
              <a:rect l="l" t="t" r="r" b="b"/>
              <a:pathLst>
                <a:path w="62" h="235">
                  <a:moveTo>
                    <a:pt x="0" y="235"/>
                  </a:moveTo>
                  <a:lnTo>
                    <a:pt x="5" y="235"/>
                  </a:lnTo>
                  <a:lnTo>
                    <a:pt x="10" y="234"/>
                  </a:lnTo>
                  <a:lnTo>
                    <a:pt x="15" y="231"/>
                  </a:lnTo>
                  <a:lnTo>
                    <a:pt x="18" y="228"/>
                  </a:lnTo>
                  <a:lnTo>
                    <a:pt x="23" y="219"/>
                  </a:lnTo>
                  <a:lnTo>
                    <a:pt x="26" y="210"/>
                  </a:lnTo>
                  <a:lnTo>
                    <a:pt x="26" y="179"/>
                  </a:lnTo>
                  <a:lnTo>
                    <a:pt x="25" y="146"/>
                  </a:lnTo>
                  <a:lnTo>
                    <a:pt x="23" y="80"/>
                  </a:lnTo>
                  <a:lnTo>
                    <a:pt x="24" y="52"/>
                  </a:lnTo>
                  <a:lnTo>
                    <a:pt x="26" y="40"/>
                  </a:lnTo>
                  <a:lnTo>
                    <a:pt x="31" y="28"/>
                  </a:lnTo>
                  <a:lnTo>
                    <a:pt x="36" y="19"/>
                  </a:lnTo>
                  <a:lnTo>
                    <a:pt x="43" y="12"/>
                  </a:lnTo>
                  <a:lnTo>
                    <a:pt x="53" y="4"/>
                  </a:lnTo>
                  <a:lnTo>
                    <a:pt x="62" y="0"/>
                  </a:lnTo>
                  <a:lnTo>
                    <a:pt x="49" y="2"/>
                  </a:lnTo>
                  <a:lnTo>
                    <a:pt x="40" y="5"/>
                  </a:lnTo>
                  <a:lnTo>
                    <a:pt x="28" y="17"/>
                  </a:lnTo>
                  <a:lnTo>
                    <a:pt x="25" y="21"/>
                  </a:lnTo>
                  <a:lnTo>
                    <a:pt x="22" y="26"/>
                  </a:lnTo>
                  <a:lnTo>
                    <a:pt x="18" y="37"/>
                  </a:lnTo>
                  <a:lnTo>
                    <a:pt x="16" y="48"/>
                  </a:lnTo>
                  <a:lnTo>
                    <a:pt x="16" y="58"/>
                  </a:lnTo>
                  <a:lnTo>
                    <a:pt x="15" y="104"/>
                  </a:lnTo>
                  <a:lnTo>
                    <a:pt x="18" y="174"/>
                  </a:lnTo>
                  <a:lnTo>
                    <a:pt x="19" y="189"/>
                  </a:lnTo>
                  <a:lnTo>
                    <a:pt x="18" y="203"/>
                  </a:lnTo>
                  <a:lnTo>
                    <a:pt x="14" y="216"/>
                  </a:lnTo>
                  <a:lnTo>
                    <a:pt x="6" y="229"/>
                  </a:lnTo>
                  <a:lnTo>
                    <a:pt x="0" y="235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84120" y="609480"/>
            <a:ext cx="182520" cy="30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38200" y="3587760"/>
            <a:ext cx="8571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46200" y="36576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ew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40080" y="36511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ew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6920" y="3855960"/>
            <a:ext cx="44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a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40800" y="3849840"/>
            <a:ext cx="44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a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47280" y="4054320"/>
            <a:ext cx="38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40800" y="4048200"/>
            <a:ext cx="38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6920" y="4253040"/>
            <a:ext cx="51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p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0440" y="4246560"/>
            <a:ext cx="51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p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5000" y="3683160"/>
            <a:ext cx="15732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4080" y="3753000"/>
            <a:ext cx="113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adop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7600" y="3746520"/>
            <a:ext cx="113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adop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13720" y="3951360"/>
            <a:ext cx="71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a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7600" y="3944880"/>
            <a:ext cx="71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a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15160" y="4149720"/>
            <a:ext cx="101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/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8680" y="4143240"/>
            <a:ext cx="101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/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9440" y="4410000"/>
            <a:ext cx="968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46640" y="4473720"/>
            <a:ext cx="61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40520" y="4467240"/>
            <a:ext cx="61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47360" y="4656240"/>
            <a:ext cx="72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41240" y="4649760"/>
            <a:ext cx="72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78400" y="3706920"/>
            <a:ext cx="1601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87840" y="3776760"/>
            <a:ext cx="120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sel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81360" y="3770280"/>
            <a:ext cx="120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sel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87480" y="3959280"/>
            <a:ext cx="89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81360" y="3952800"/>
            <a:ext cx="89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76760" y="4438800"/>
            <a:ext cx="1095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74680" y="4502160"/>
            <a:ext cx="83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68200" y="4495680"/>
            <a:ext cx="83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11560" y="3724200"/>
            <a:ext cx="1613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20640" y="379404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14520" y="378792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19560" y="3992400"/>
            <a:ext cx="3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13080" y="3986280"/>
            <a:ext cx="3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05360" y="4095720"/>
            <a:ext cx="1528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6240" y="4165560"/>
            <a:ext cx="100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09760" y="4159080"/>
            <a:ext cx="100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15520" y="4363920"/>
            <a:ext cx="74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09040" y="4357800"/>
            <a:ext cx="74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05440" y="4467240"/>
            <a:ext cx="1306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3000" y="4530600"/>
            <a:ext cx="10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 to mai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96520" y="4524480"/>
            <a:ext cx="10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 to mai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3000" y="471312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96520" y="470700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51480" y="3720960"/>
            <a:ext cx="838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59840" y="379080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53720" y="378468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59840" y="3989520"/>
            <a:ext cx="50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53720" y="3983040"/>
            <a:ext cx="50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10440" y="4429080"/>
            <a:ext cx="112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19160" y="449892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t of 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12680" y="449280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t of 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19520" y="4697280"/>
            <a:ext cx="72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13040" y="4691160"/>
            <a:ext cx="72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724040"/>
            <a:ext cx="1257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0200" y="178920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23720" y="178272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4200" y="1709640"/>
            <a:ext cx="792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3640" y="177480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57160" y="176832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94440" y="1724040"/>
            <a:ext cx="855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03880" y="17892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97760" y="17827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81720" y="1724040"/>
            <a:ext cx="800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91160" y="178920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cl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84680" y="178272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cl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2971800"/>
            <a:ext cx="75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24360" y="1197000"/>
            <a:ext cx="12600" cy="3946680"/>
            <a:chOff x="3024360" y="1197000"/>
            <a:chExt cx="12600" cy="3946680"/>
          </a:xfrm>
        </p:grpSpPr>
        <p:sp>
          <p:nvSpPr>
            <p:cNvPr id="126" name=""/>
            <p:cNvSpPr/>
            <p:nvPr/>
          </p:nvSpPr>
          <p:spPr>
            <a:xfrm>
              <a:off x="3024360" y="5092560"/>
              <a:ext cx="1260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24360" y="5003640"/>
              <a:ext cx="1260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24360" y="49150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24360" y="48261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4360" y="47372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4360" y="46483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24360" y="45594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24360" y="44704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24360" y="43815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24360" y="42926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24360" y="42037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24360" y="41148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24360" y="40258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4360" y="39369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24360" y="38480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24360" y="37591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24360" y="36702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24360" y="35812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24360" y="3492360"/>
              <a:ext cx="1260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24360" y="3403440"/>
              <a:ext cx="1260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4360" y="33148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24360" y="32259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24360" y="31370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24360" y="30481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4360" y="29592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24360" y="28702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24360" y="27813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24360" y="26924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24360" y="26035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24360" y="25146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24360" y="24256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24360" y="23367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24360" y="22478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24360" y="21589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24360" y="20700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24360" y="19810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24360" y="1892160"/>
              <a:ext cx="1260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24360" y="1803240"/>
              <a:ext cx="1260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17146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24360" y="16257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24360" y="15368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24360" y="14479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24360" y="13590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24360" y="12700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24360" y="1197000"/>
              <a:ext cx="1260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414680" y="1206360"/>
            <a:ext cx="12960" cy="3946680"/>
            <a:chOff x="4414680" y="1206360"/>
            <a:chExt cx="12960" cy="3946680"/>
          </a:xfrm>
        </p:grpSpPr>
        <p:sp>
          <p:nvSpPr>
            <p:cNvPr id="172" name=""/>
            <p:cNvSpPr/>
            <p:nvPr/>
          </p:nvSpPr>
          <p:spPr>
            <a:xfrm>
              <a:off x="4414680" y="51022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4680" y="50133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14680" y="49244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4680" y="48355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14680" y="47466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14680" y="46576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14680" y="45687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4680" y="44798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4680" y="43909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4680" y="43020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14680" y="4213080"/>
              <a:ext cx="129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4680" y="4124160"/>
              <a:ext cx="129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4680" y="40356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4680" y="39466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4680" y="38577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14680" y="37688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14680" y="36799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4680" y="35910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14680" y="35020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4680" y="34131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14680" y="33242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4680" y="32353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4680" y="31464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4680" y="30574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14680" y="29685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14680" y="28796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14680" y="27907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14680" y="27018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14680" y="2612880"/>
              <a:ext cx="129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14680" y="2523960"/>
              <a:ext cx="129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4680" y="24354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14680" y="23464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14680" y="22575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14680" y="21686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14680" y="20797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14680" y="19908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14680" y="19018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14680" y="18129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14680" y="17240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14680" y="16351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14680" y="15462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14680" y="14572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14680" y="13683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14680" y="12794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14680" y="1206360"/>
              <a:ext cx="129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719680" y="1216080"/>
            <a:ext cx="12960" cy="3946320"/>
            <a:chOff x="5719680" y="1216080"/>
            <a:chExt cx="12960" cy="3946320"/>
          </a:xfrm>
        </p:grpSpPr>
        <p:sp>
          <p:nvSpPr>
            <p:cNvPr id="218" name=""/>
            <p:cNvSpPr/>
            <p:nvPr/>
          </p:nvSpPr>
          <p:spPr>
            <a:xfrm>
              <a:off x="5719680" y="51116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19680" y="50227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19680" y="4933800"/>
              <a:ext cx="129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19680" y="4844880"/>
              <a:ext cx="129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9680" y="47563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19680" y="46674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19680" y="45784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19680" y="44895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19680" y="44006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19680" y="43117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19680" y="42228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19680" y="41338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19680" y="40449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19680" y="39560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19680" y="38671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19680" y="37782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19680" y="36892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19680" y="36003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19680" y="35114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9680" y="34225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19680" y="3333600"/>
              <a:ext cx="129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19680" y="3244680"/>
              <a:ext cx="129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19680" y="31561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9680" y="30672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19680" y="29782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19680" y="28893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19680" y="28004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19680" y="27115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19680" y="26226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19680" y="25336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19680" y="24447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19680" y="23558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19680" y="22669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9680" y="21780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9680" y="20890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19680" y="20001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19680" y="191124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19680" y="18223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19680" y="1733400"/>
              <a:ext cx="129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19680" y="1644480"/>
              <a:ext cx="129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19680" y="155592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19680" y="146700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9680" y="137808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19680" y="1289160"/>
              <a:ext cx="129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19680" y="1216080"/>
              <a:ext cx="129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120080" y="1206360"/>
            <a:ext cx="12600" cy="3946680"/>
            <a:chOff x="7120080" y="1206360"/>
            <a:chExt cx="12600" cy="3946680"/>
          </a:xfrm>
        </p:grpSpPr>
        <p:sp>
          <p:nvSpPr>
            <p:cNvPr id="264" name=""/>
            <p:cNvSpPr/>
            <p:nvPr/>
          </p:nvSpPr>
          <p:spPr>
            <a:xfrm>
              <a:off x="7120080" y="51022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20080" y="50133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20080" y="49244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20080" y="48355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20080" y="47466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20080" y="46576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0080" y="45687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20080" y="44798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20080" y="43909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20080" y="43020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20080" y="4213080"/>
              <a:ext cx="1260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20080" y="4124160"/>
              <a:ext cx="1260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20080" y="40356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20080" y="39466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20080" y="38577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20080" y="37688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20080" y="36799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20080" y="35910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20080" y="35020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20080" y="34131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20080" y="33242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20080" y="32353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20080" y="31464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20080" y="30574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0080" y="29685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20080" y="28796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20080" y="27907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20080" y="27018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20080" y="2612880"/>
              <a:ext cx="1260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20080" y="2523960"/>
              <a:ext cx="1260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20080" y="24354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20080" y="23464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20080" y="22575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20080" y="21686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20080" y="20797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20080" y="19908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20080" y="19018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20080" y="18129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20080" y="17240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20080" y="163512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20080" y="154620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20080" y="145728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20080" y="136836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0080" y="1279440"/>
              <a:ext cx="126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20080" y="1206360"/>
              <a:ext cx="1260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57360" y="3240"/>
            <a:ext cx="264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8000" y="60480"/>
            <a:ext cx="22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fe product cycle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981080" y="2209680"/>
            <a:ext cx="5410440" cy="327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22860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380988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34640" y="99072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0160" y="331776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1560" y="24033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77400" y="4537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56680" y="56037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01680" y="56037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28800" y="2708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243828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(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70840" y="441972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ash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7680" y="44197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D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31560" y="380880"/>
            <a:ext cx="57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oston Matrix (Growth/Share Matr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981080" y="2209680"/>
            <a:ext cx="5410440" cy="327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4280" y="22860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380988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34640" y="99072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0160" y="331776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51560" y="24033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77400" y="4537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56680" y="56037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01680" y="56037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30240" y="27082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1440" y="2438280"/>
            <a:ext cx="24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ve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ature Her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95240" y="4191120"/>
            <a:ext cx="17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T 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S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08760" y="4191120"/>
            <a:ext cx="14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U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3720" y="38088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oston Matrix - Chocolate B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600200" y="2057400"/>
            <a:ext cx="640080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00600" y="20574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38098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09000" y="419112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er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28800" y="2590920"/>
            <a:ext cx="276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Pene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259092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9160" y="4267080"/>
            <a:ext cx="30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36640" y="13366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ing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15160" y="133668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25200">
            <a:off x="-178920" y="238788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ing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67680" y="465840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4160" y="380880"/>
            <a:ext cx="56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off’s Matrix (Product/Market Matr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600200" y="2057400"/>
            <a:ext cx="640080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20574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76520" y="38098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8120" y="419112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ersification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ed or un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2590920"/>
            <a:ext cx="276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Realignments of the marketing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29200" y="259092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Geograph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9880" y="426708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e outlet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 strate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new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36640" y="13366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ing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15160" y="133668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25200">
            <a:off x="-178920" y="238788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ing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67680" y="465840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54160" y="380880"/>
            <a:ext cx="56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off’s Matrix (Product/Market Matr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s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t and Service Classification Syst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duct Life Cycle stag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owth/Sha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t Mark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09:09:45Z</dcterms:created>
  <dc:creator>ITCS</dc:creator>
  <dc:description/>
  <dc:language>en-US</dc:language>
  <cp:lastModifiedBy>xyz</cp:lastModifiedBy>
  <dcterms:modified xsi:type="dcterms:W3CDTF">2001-08-11T08:09:20Z</dcterms:modified>
  <cp:revision>26</cp:revision>
  <dc:subject/>
  <dc:title>Products Decisions</dc:title>
</cp:coreProperties>
</file>