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9EFC-6005-47F4-AF1E-B17227EDA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D882-A5E5-490C-9BB1-45FD080E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9BCF-64B0-4A6B-8778-B425420E2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7F85-63C6-483C-8692-0DC420C8B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76F2-B4A2-4158-9383-C7657C87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EFD0-B477-4893-820D-188BD93D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7F44-B2D4-4FBD-814A-8950298D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E9CE-86F2-47DC-87ED-2E924D0B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DDDC-B69B-458F-82F7-0B056B6D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BC4C-F361-4D25-83E6-46D93DBC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8A68-AA52-44E1-8DB3-01CA1291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8E9B-97B6-4903-8338-B53DEED8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95E6-7ACF-44CD-9B10-3C6FFD8E3F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marketing_teacher_logo" descr=""/>
          <p:cNvPicPr/>
          <p:nvPr/>
        </p:nvPicPr>
        <p:blipFill>
          <a:blip r:embed="rId2"/>
          <a:stretch/>
        </p:blipFill>
        <p:spPr>
          <a:xfrm>
            <a:off x="2133720" y="5908680"/>
            <a:ext cx="472104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cing 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icing strategi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icing exerci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n ways to ‘increase’ prices without increasing price - Win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28800" y="1828800"/>
            <a:ext cx="5334120" cy="3352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95680" y="19051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350532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72320" y="126036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91120" y="1260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800" y="25560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1760" y="4384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93480" y="2147760"/>
            <a:ext cx="128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cono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.g. Tes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pagh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2133720"/>
            <a:ext cx="187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ne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.g. Telew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ble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3840" y="3927600"/>
            <a:ext cx="226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New film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b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61440" y="3927600"/>
            <a:ext cx="176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m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BA fir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5040" y="331776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33920" y="6858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cing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emium pri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s a high price, but gives a good product/service exchange e.g. Concorde, The Ritz Ho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netration pri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fers low price to gain market share - then increases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.g. France Telecom - to attract new corporate clients (or Telewest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conomy pri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ced at ‘no frills’, low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.g. Soups, spaghetti, beans - ‘economy’ br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6212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ice ski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ere prices are high - usually during 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.g new albums or films on 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ltimately prices will reduce to the ‘parity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sychological pri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get a customer to respond on an emotional, rather than rational bas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e.g 99p not £1.01 ‘price point persp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duct line pri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ationale of a product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.g. MARS 32p, Four-pack 99p, Bite-size £1.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icing vari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‘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ff-peak’ pricing, early booking discounts,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.g Grundig offers a ‘cash back’ incentive for expensive go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al product-pri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optional extras - BMW famously under-equi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tive product pri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that complement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 Gillette razors (low price) and blades (high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-bundle pri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lers combine several products at the same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 software, books, C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ional pri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GOF e.g. toothpaste, soups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ographical pri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fferent prices for customers in different parts of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.g.Include shipping costs, or place onP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alue pri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ually during difficult economic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.g. Value menus at McDona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n ways to ‘increase’ prices without increasing price - Wink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e the discount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minimum order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ge for delivery and special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ice for repairs on serviced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ge for engineering, instal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ge for overtime on rushed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 interest on overdue ac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e less of the lower margin models in the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penalty clauses into contr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physical characteristics of the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7T08:33:46Z</dcterms:created>
  <dc:creator>ITCS</dc:creator>
  <dc:description/>
  <dc:language>en-US</dc:language>
  <cp:lastModifiedBy>xyz</cp:lastModifiedBy>
  <dcterms:modified xsi:type="dcterms:W3CDTF">2001-08-11T09:58:57Z</dcterms:modified>
  <cp:revision>24</cp:revision>
  <dc:subject/>
  <dc:title>Pricing Decisions</dc:title>
</cp:coreProperties>
</file>